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C35-1490-4DE8-86F9-A0C57F8E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6FB-C59F-4F91-B2B0-C714639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61F-8877-4A9B-927B-67EA620E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06E-1A17-476B-BBBC-4AF2A1F5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A71-9D3D-42CC-B1EC-F2C32E7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729-D706-4092-AAF0-3CBD1A57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A2C-6037-466F-B676-A3AD71A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2C7-F88D-4F88-A68E-2EA37F4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43E-B1F8-456F-A61F-F4A0763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D73-2190-4C34-95CD-7A10CED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6B4-E3F4-408F-93D5-71818AE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CB1-8054-4BF8-81C4-E795E4D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81A-D368-4257-B680-C52B34ECF89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22120" y="2071800"/>
            <a:ext cx="85647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30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 SESSION OF VTS COMMITTE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 – 7 SEPTEMBER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ISTANBUL - TUR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22120" y="1901880"/>
            <a:ext cx="856476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osted by the Directorate General of Coastal Safety of Turkey. The Coastal Safety is the National IALA member on behalf of Tur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www.kiyiemniyeti.gov.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nfo@coastalsafety.gov.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 Resim" descr="ust_01_02.gif"/>
          <p:cNvPicPr/>
          <p:nvPr/>
        </p:nvPicPr>
        <p:blipFill>
          <a:blip r:embed="rId1"/>
          <a:stretch/>
        </p:blipFill>
        <p:spPr>
          <a:xfrm>
            <a:off x="3714840" y="3090960"/>
            <a:ext cx="1571400" cy="1377720"/>
          </a:xfrm>
          <a:prstGeom prst="rect">
            <a:avLst/>
          </a:prstGeom>
          <a:ln w="0">
            <a:noFill/>
          </a:ln>
        </p:spPr>
      </p:pic>
      <p:sp>
        <p:nvSpPr>
          <p:cNvPr id="45" name="5 Metin kutusu"/>
          <p:cNvSpPr/>
          <p:nvPr/>
        </p:nvSpPr>
        <p:spPr>
          <a:xfrm>
            <a:off x="4007160" y="6059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2120" y="1643040"/>
            <a:ext cx="85647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The 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eld in the Anadoluhisari Facility of the Directorate General of Coastal Safe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4 Resim" descr="DSCF1776.JPG"/>
          <p:cNvPicPr/>
          <p:nvPr/>
        </p:nvPicPr>
        <p:blipFill>
          <a:blip r:embed="rId1"/>
          <a:stretch/>
        </p:blipFill>
        <p:spPr>
          <a:xfrm>
            <a:off x="4714920" y="2857680"/>
            <a:ext cx="4271760" cy="2858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\\filesrv\Users\57 Bengu\2012 KONGRELERİ\KIYI EMNİYETİ\PARİS 2\DSC_1287 copy.JPG"/>
          <p:cNvPicPr/>
          <p:nvPr/>
        </p:nvPicPr>
        <p:blipFill>
          <a:blip r:embed="rId2"/>
          <a:stretch/>
        </p:blipFill>
        <p:spPr>
          <a:xfrm>
            <a:off x="285840" y="2857680"/>
            <a:ext cx="426852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6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Metin kutusu"/>
          <p:cNvSpPr/>
          <p:nvPr/>
        </p:nvSpPr>
        <p:spPr>
          <a:xfrm>
            <a:off x="151200" y="160020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Locations &amp; Daily Transfers from hotels / to Taksi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etin kutusu"/>
          <p:cNvSpPr/>
          <p:nvPr/>
        </p:nvSpPr>
        <p:spPr>
          <a:xfrm>
            <a:off x="142920" y="2214720"/>
            <a:ext cx="407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re will be shuttles from Taksim area to Kabataş Ferry Pier, and then voyage will continue by fer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 voyage will be through the Istanbul Strait and will take approximately 5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If you are not booking your hotel through interium we kindly request you to stay at Taksim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4 Resim" descr="harita.png"/>
          <p:cNvPicPr/>
          <p:nvPr/>
        </p:nvPicPr>
        <p:blipFill>
          <a:blip r:embed="rId1"/>
          <a:stretch/>
        </p:blipFill>
        <p:spPr>
          <a:xfrm>
            <a:off x="3995640" y="2023920"/>
            <a:ext cx="507708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6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2120" y="1901880"/>
            <a:ext cx="85647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CCOMMODATION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Hotel Name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  Single Room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Double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eylan Intercontinental 5* City Wiev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40,00 €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9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Ramada Plaza 5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Kervansaray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3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aksim Metropark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25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5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ity Center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Bentley Boutique Hotel 3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 prices are per room per night and include breakfast and taxes.</a:t>
            </a: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etin kutusu"/>
          <p:cNvSpPr/>
          <p:nvPr/>
        </p:nvSpPr>
        <p:spPr>
          <a:xfrm>
            <a:off x="214200" y="2004840"/>
            <a:ext cx="328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Dinner Cruise (Bosphorus By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n enchanted night cruise starts while you ship your welcome drink as the sun sets on Istanb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 rich variety of open buffet dishes, specialities of Turkish Cuisine and barbeque, unlimited local drin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he twinkling lights of the European shores from Tarabya to Kab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etin kutusu"/>
          <p:cNvSpPr/>
          <p:nvPr/>
        </p:nvSpPr>
        <p:spPr>
          <a:xfrm>
            <a:off x="281880" y="160020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SOCIAL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Resim" descr="social2.jpg"/>
          <p:cNvPicPr/>
          <p:nvPr/>
        </p:nvPicPr>
        <p:blipFill>
          <a:blip r:embed="rId1"/>
          <a:stretch/>
        </p:blipFill>
        <p:spPr>
          <a:xfrm>
            <a:off x="3300480" y="1571760"/>
            <a:ext cx="5843520" cy="4319280"/>
          </a:xfrm>
          <a:prstGeom prst="rect">
            <a:avLst/>
          </a:prstGeom>
          <a:ln w="0">
            <a:noFill/>
          </a:ln>
        </p:spPr>
      </p:pic>
      <p:pic>
        <p:nvPicPr>
          <p:cNvPr id="59" name="4 Resim" descr="Untitled-1 copy.jpg"/>
          <p:cNvPicPr/>
          <p:nvPr/>
        </p:nvPicPr>
        <p:blipFill>
          <a:blip r:embed="rId2"/>
          <a:stretch/>
        </p:blipFill>
        <p:spPr>
          <a:xfrm>
            <a:off x="3286080" y="1571760"/>
            <a:ext cx="3286080" cy="2230200"/>
          </a:xfrm>
          <a:prstGeom prst="rect">
            <a:avLst/>
          </a:prstGeom>
          <a:ln w="0">
            <a:noFill/>
          </a:ln>
        </p:spPr>
      </p:pic>
      <p:sp>
        <p:nvSpPr>
          <p:cNvPr id="60" name="7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Metin kutusu"/>
          <p:cNvSpPr/>
          <p:nvPr/>
        </p:nvSpPr>
        <p:spPr>
          <a:xfrm>
            <a:off x="142920" y="1643040"/>
            <a:ext cx="4643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N-1  Tour of Ephesus &amp; Pergamum</a:t>
            </a:r>
            <a:br>
              <a:rPr sz="2000"/>
            </a:br>
            <a:r>
              <a:rPr b="0" i="1" lang="tr-TR" sz="2000" spc="-1" strike="noStrike">
                <a:solidFill>
                  <a:srgbClr val="000000"/>
                </a:solidFill>
                <a:latin typeface="Comic Sans MS"/>
              </a:rPr>
              <a:t>The House of Virgin Mary, Ephesus, Temple of Artemis, Ephesus Museum, Bergama, Pergamum Acropolis, Pergamum Aesclepium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etin kutusu"/>
          <p:cNvSpPr/>
          <p:nvPr/>
        </p:nvSpPr>
        <p:spPr>
          <a:xfrm>
            <a:off x="71280" y="4071960"/>
            <a:ext cx="42148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-2  Tour of Cappadoc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ppadocia, Goreme and Zelve Open Air Museums, Kaymakli Underground C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Resim" descr="ppe001.jpg"/>
          <p:cNvPicPr/>
          <p:nvPr/>
        </p:nvPicPr>
        <p:blipFill>
          <a:blip r:embed="rId1"/>
          <a:stretch/>
        </p:blipFill>
        <p:spPr>
          <a:xfrm>
            <a:off x="4786200" y="1571760"/>
            <a:ext cx="1800360" cy="1238040"/>
          </a:xfrm>
          <a:prstGeom prst="rect">
            <a:avLst/>
          </a:prstGeom>
          <a:ln w="0">
            <a:noFill/>
          </a:ln>
        </p:spPr>
      </p:pic>
      <p:pic>
        <p:nvPicPr>
          <p:cNvPr id="64" name="4 Resim" descr="ppe002.jpg"/>
          <p:cNvPicPr/>
          <p:nvPr/>
        </p:nvPicPr>
        <p:blipFill>
          <a:blip r:embed="rId2"/>
          <a:stretch/>
        </p:blipFill>
        <p:spPr>
          <a:xfrm>
            <a:off x="7072200" y="250020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5 Resim" descr="ppe003.jpg"/>
          <p:cNvPicPr/>
          <p:nvPr/>
        </p:nvPicPr>
        <p:blipFill>
          <a:blip r:embed="rId3"/>
          <a:stretch/>
        </p:blipFill>
        <p:spPr>
          <a:xfrm>
            <a:off x="5429160" y="407196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6" name="6 Resim" descr="ppe004.jpg"/>
          <p:cNvPicPr/>
          <p:nvPr/>
        </p:nvPicPr>
        <p:blipFill>
          <a:blip r:embed="rId4"/>
          <a:stretch/>
        </p:blipFill>
        <p:spPr>
          <a:xfrm>
            <a:off x="7429680" y="4429080"/>
            <a:ext cx="1285560" cy="1768680"/>
          </a:xfrm>
          <a:prstGeom prst="rect">
            <a:avLst/>
          </a:prstGeom>
          <a:ln w="0">
            <a:noFill/>
          </a:ln>
        </p:spPr>
      </p:pic>
      <p:sp>
        <p:nvSpPr>
          <p:cNvPr id="67" name="7 Metin kutusu"/>
          <p:cNvSpPr/>
          <p:nvPr/>
        </p:nvSpPr>
        <p:spPr>
          <a:xfrm>
            <a:off x="366480" y="14875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E – POST EXCU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17:52Z</dcterms:created>
  <dc:creator>izberk</dc:creator>
  <dc:description/>
  <dc:language>en-US</dc:language>
  <cp:lastModifiedBy>Mike Hadley (Home)</cp:lastModifiedBy>
  <dcterms:modified xsi:type="dcterms:W3CDTF">2012-05-31T11:37:52Z</dcterms:modified>
  <cp:revision>312</cp:revision>
  <dc:subject/>
  <dc:title>Slide 1</dc:title>
</cp:coreProperties>
</file>